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407-A9EF-4F0F-835E-2929749E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682-FA4B-4939-A355-093919EE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00B-99EA-49E6-92BC-C9FC38FC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1A07-1D99-491A-81C7-89B8F76C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0A5B-B9EB-4CE3-9A8E-26E7F4AD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644-260F-4273-A336-C6C53AA1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B8A-56E1-44DE-9ACB-84ADFC84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2F4D-DCF8-4EE6-8FBF-691159BC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6D6-8667-4686-9180-6CAB5094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937E-5854-4379-8B91-3ED76998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D4E-09FF-482A-B9C6-475252F8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6208-BFCE-47EF-ADAF-6BC54DAD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02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7C46-F0A5-43BA-933B-A3C550B842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дания по математике для обучения и развития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«От знаний к творчеству, от творчества к знаниям»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597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4fb9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4fb9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012 – 2013уч.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89000"/>
            <a:ext cx="4043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готовили учени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9 «В»клас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БОУ СОШ №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.Ногинс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боту выполня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фанасьев Леони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плина Ал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уководитель рабо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ирина Ольга Владими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4fb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f4fb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f4fb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f4fb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f4fb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f4fb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f4fb9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4fb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Содержимое 5" descr="P1261164.JPG"/>
          <p:cNvPicPr/>
          <p:nvPr/>
        </p:nvPicPr>
        <p:blipFill>
          <a:blip r:embed="rId2"/>
          <a:stretch/>
        </p:blipFill>
        <p:spPr>
          <a:xfrm>
            <a:off x="5357880" y="1071720"/>
            <a:ext cx="3009960" cy="2257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ктуальность темы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ы считаем что выбранная нами тема интересна тем, что помогает  нам получать не только прочные знания по математике, но и развивает  наш кругозор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ы думаем что наша работа будет интересна ученикам и учителям при проведении уроков и внеклассных занят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борник заданий является дополнением к учебнику «Алгебра-7-8».  Выполнение заданий позволяет расширить кругозор учащихся ,  пополнить лексический запас новыми терминами, узнать об их происхождении, получить новую информацию об окружающем мире. Сборник помогает развить логическое мышление учащихся, повысить интерес к предмету. Многие задания даны в занимательной фор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Arial"/>
              </a:rPr>
              <a:t>Наш сборник помогает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акрепить навыки  решения квадратных уравн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) систематизировать сведения о рациональных числах и дать представление об иррациональных числах, расширив, тем самым, понятие чис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3)углубить и систематизировать математические знания и умения по теме: «Арифметический квадратный корень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4)выработать умение выполнять простейшие преобразования выражений, содержащих квадратный коре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)создать прочную базу математических знаний и ум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)повышает интерес к математи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)применять математические знания на практи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8)расширить математический кругозор учащихс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9)воспитывать чувства коллективизма и взаимопомощ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0)воспитывать у учащихся ответственность, уважение к себе и своим соперникам, развивать самостоятельную познавательную деятельности, творческий подход при выполнении зада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11:42:31Z</dcterms:created>
  <dc:creator>20</dc:creator>
  <dc:description/>
  <dc:language>en-US</dc:language>
  <cp:lastModifiedBy>ольга</cp:lastModifiedBy>
  <dcterms:modified xsi:type="dcterms:W3CDTF">2013-01-26T08:19:24Z</dcterms:modified>
  <cp:revision>28</cp:revision>
  <dc:subject/>
  <dc:title>Слайд 1</dc:title>
</cp:coreProperties>
</file>